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536-71AB-45A6-9D68-015791FF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0E1-1B8E-4E00-BAEF-62581E92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FCD-37EF-405F-975E-69AE26E6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75F-E3B0-41CD-9A93-EE4D04EB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AF1-40CD-4642-B08E-18B2100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A28-29E8-4FA2-8E58-78848642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936-C249-4893-B9C8-785BF60A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9D7-6DC3-4A85-8849-304BFDAC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9CF-F487-42FD-B1AE-AD4F84A8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4BD-ADF8-43E5-9196-D0D1E13B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9C3-4356-477B-B210-D78246DF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CFE-DA6D-49F7-AA4E-57BA5587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12EE-3DA2-4A4C-B6BD-8D035CCD3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7910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81280" y="604800"/>
            <a:ext cx="55814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 Proc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961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On-Chip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314520" cy="448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49719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JTAG u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000320" cy="439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85840" y="942840"/>
            <a:ext cx="497232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Interval T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228840" cy="4019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38480" y="990720"/>
            <a:ext cx="4496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143160" cy="4048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57600" y="914400"/>
            <a:ext cx="48769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01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OSII ID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1190520"/>
            <a:ext cx="520056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20:55:32Z</dcterms:created>
  <dc:creator>John Loomis</dc:creator>
  <dc:description/>
  <dc:language>en-US</dc:language>
  <cp:lastModifiedBy>Owner</cp:lastModifiedBy>
  <dcterms:modified xsi:type="dcterms:W3CDTF">2008-01-16T20:48:58Z</dcterms:modified>
  <cp:revision>4</cp:revision>
  <dc:subject/>
  <dc:title>Create New System</dc:title>
</cp:coreProperties>
</file>